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DE93-534F-4802-BFB0-5C80187E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9B7C-78B7-42AC-819A-2B249C06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FE2E-F029-477E-A8AF-03854C31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27A9-F46A-4722-96A0-59E9FB2E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5D2B-3059-4575-B09E-7BF5989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65ED-CD2B-4339-9294-4A3EF71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42F1-C5F0-4048-9340-1F0690D9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4D0E-7DAC-4ECC-9F02-B8084BEC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DEB-106F-4C5F-8EFE-EFD98EB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668-BC7F-4AE1-997F-A8D029C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DDA2-9A78-4F5B-B52B-799A0CC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18CA-F210-4CD9-B54C-BA0B1FFF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7B8-A85A-4250-8A8D-F32206C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C932-0A2C-45B0-AAF8-D0ABD7F5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3968-6B96-4D73-AE82-74965E9E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651-B992-4866-8464-4FC64785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D72-CCAE-46F1-A8FE-7E229914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11F9-B685-4609-A0E5-33834D32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2288-A1B9-406A-AE59-456B59C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A1C5-739C-4473-83B4-F00A8D7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A464-4CF1-49C6-944D-6DDC338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5DFA-4F56-4C96-A300-C598D17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34D8-1199-407F-9E66-49A2DC7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B7BC-C827-43BE-8FDC-B65224B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AB7-7FC1-4C3E-8745-F82946353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58D-8FE9-40BF-940D-3DF29992A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ffects of Technology Use in Literacy Instruc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ie Har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702.2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ll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Digital Storytellin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bin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mpasses multiple literac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tudies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udiobook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olfson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read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CD Projector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ack, Brill, Eber, &amp; Suomala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tudent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 scores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4037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ment of the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1: The reading comprehension skills and motivation to read of twenty-seven Second-grade students in P.S. X will increase if technology is integrated into their reading activities over the course of four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Second-Grade students in P.S.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8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males and 16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2682720"/>
            <a:ext cx="40384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n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ve whit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9240" y="1523880"/>
            <a:ext cx="3176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one, D., &amp; Wright, T. E. (2008). Literacy instruction with digital and media technologi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cher, 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2-302. Retrieved September 20, 2009, from 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, N., Brill, A., Eber, D., &amp; Suomala, L. (2005, July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ing technology to compare the instructiona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ffectiveness of read aloud and read along materials in an elementary classro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2, 2009, from ERIC database. (Eric Document Reproduction No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496975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Jong, M. T., &amp; Bus, A. G. (2002). Quality of book-reading matters for emergent readers: An experiment with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book in a regular or electronic forma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Educational Psychology, 9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-155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11, 2009, from PsycARTICLES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y, D. E., Popplewell, S. R., &amp; Byers, G. O. (2001). Interactive CD-ROM storybooks and young readers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Research on Computing in Education,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 374-384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3, 2009, fro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nn and Dunn learning style model of instru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.d.). Retrieved November 20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thica.dk/doc_uflash/The%20Dunn%20and%20Dunn%20Learning%20Style%20Model%20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20Instru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dner, H. (2000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n technology exploit our many ways of knowing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trieved October 10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owardgardner.com/docs/Can%20Technology%20Exploit%20Our%20Many%20Ways%20of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nowing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dner, H., &amp; Walters, J. (1993). A rounded version. In F. Schultz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able Selections in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p. 308-318). Connecticut: McGraw-Hill/Dush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mshaw, S., Dungworth, N., McKnight, C., &amp; Morris, A. (2007, July). Electronic books: Children’s read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itish Journal of Educational Technology, 3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3-599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3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ya, M., O’Connor-Petruso, S,A,, &amp; Girelli-Carasi, F. (2010). Literacy – A critical constituent for successf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ization. In S.A. O’Connor-Petruso &amp; F. Girelli-Carasi (Eds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lobalization: Technology, Literac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. 3). New York: Pearson Custom Publish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ever-Davis, S., &amp; Pearman, C. (2005, February). Early readers and electronic texts: CD-ROM storyboo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that influence reading behavior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Teacher, 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6-454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12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hew, K. (1997). A comparison of the influence of interactive CD-ROM storybooks and traditional pri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books on reading comprehension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Research on Computing in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63-75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1, 2009, from Academic Search Premie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il, E. (2007). Laptop technology and pedagogy in the English language arts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chnology &amp; Teacher Education,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-85. Retrieved October 11, 2009, from Education Resear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oduser, D., Tur-Kaspa, H., &amp; Leitner, I. (2000, March). The learning value of computer-based instruction of ear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kill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Computer Assisted Learning, 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54-63. Retrieved October 18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lin, G. (2005, September). Hoover elementary turns to LeapFrog SchoolHouse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H.E. Journal,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September 17, 2009, from Academic Search Complete data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w York City students make progress in every grade on state reading t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9, May7). Retrieved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hools.nyc.gov/Offices/mediarelations/NewsandSpeeches/2008-2009/20090507_el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man, C. J. (2008, May). Independent reading of CD-ROM storybooks: Measuring comprehension with or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elling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Teacher, 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), 594-602. Retrieved October 16, 2009, from Education Resear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man, C. J., &amp; Lefever-Davis, S. (2006, March). Supporting the essential elements with CD-ROM storybook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Horizons Journal, 4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, 301-313. Retrieved September 17, 2009 from Education Full 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s, J. A., &amp; Milby, T. M. (2007, November). Teacher-created electronic books: Integrating technolog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readers with disabiliti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Teacher, 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55-259. Retrieved October 16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TOR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ci, C. M, &amp; Beal, C. R. (2002, March). The effect of interactive media on children’s story memory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al Psychology, 9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-144. Retrieved October 3, 2009, from PsycARTICLES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in, B. R. (2008). Digital storytelling: A powerful technology tool for the 21st century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ory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o Prac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 220-228. Retrieved September 12, 2009 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ir, A., &amp; Korat, O. (2006, March)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ect CD-ROM storybooks for young children: The teacher’s role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Reading Teacher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(6), 532-543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3, 2009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nton, A., &amp; Pagett, L. (2007, November). From ‘bored’ to screen: the use of the interactive whiteboard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cy in six primary classrooms in England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iteracy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(3), 129-136. Retrieved October 3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cial development theory (Vygotsk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.d.). Retrieved October 3, 2009,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earningtheories.com/vygotskys-social-learningthe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berg, B. J., Kaplan, K. A., &amp; Borck, J. E. (2007). Enhancing adolescent literacy achievement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technology in the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ding Research Quarterly, 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6-420. Retriev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ber 2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hell, J., &amp; Maitland, A. (2005, January). Primary pupils’ recall of interactive storybooks on CD-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nsiderate interactive features and forgetting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itish Journal of Educational Technology,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57-66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ctober 11, 2009,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chauer, M., &amp; Grimes, D. (2008, January). Automated writing assessment in the classroo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dagogies: 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national Journal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22-36. Retrieved October 18, 2009, from Education Research Comple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son, G. (2008). Using audiobooks to meet the needs of adolescent reader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Secondary Educati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, 105-114. Retrieved October 16, 2009 from Education Research Complet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725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 of the Research Hypo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out of 10 students in grades 3 to 8 are not reading at their grade lev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York City students are underperforming versus New York State (“New York City,” 2009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rassment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 as possibl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611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ev Vygotsky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interaction, More Knowledgeable Other, Active role in learn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Social Development Theory,” n.d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Howard Gar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Intelligences Theory</a:t>
            </a:r>
            <a:r>
              <a:rPr b="0" i="1" lang="en-US" sz="2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ardner, 2000; Gardner &amp; Walters, 199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Rita and Kenneth Du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learning sty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The Dunn and Dunn Learning Style Model of Instruction,” n.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onic Books / CD-ROM Story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 Jong &amp; Bus, 2002; Doty, Popplewell, &amp; Byers 2001; Grimshaw, Dungworth, McKnight, &amp; Morris, 2007; Lefever- Davis &amp; Pearman, 2005; Matthew, 1997; Mollin, 2005; Pearman, 2008; Pearman &amp; Lefever-Davis, 2006; Ricci &amp; Beal, 2002; Rhodes &amp; Milby, 2007; Shamir &amp; Korat, 2006; Trushell &amp; Maitland, 2005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iz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burden of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s phonemic awareness, phonics, fluency, vocabulary, and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ronic Books / CD-ROM Story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otivation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prehension scores vs. traditional prin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s 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neficial to every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reliant on ‘help’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ptops /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rone &amp; Wright, 2008; Kaya, O’Connor-Petruso, &amp; Girelli-Carasi, 2010; McGrail, 2007; Mioduser, Tur-Kaspa, &amp; Leitner,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stud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Quests, web sites, instant messaging,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, time, availability, support, teach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isolation, limited communication, off-task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0120" y="5867280"/>
            <a:ext cx="12189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nteractive White Bo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henton &amp; Pagett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nd facilitate student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of multimodal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rtificial Intellig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ernberg, Kaplan, &amp; Borck, 2007; Warschauer &amp; Grimes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writ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and increase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writing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4:14:32Z</dcterms:created>
  <dc:creator>Annie</dc:creator>
  <dc:description/>
  <dc:language>en-US</dc:language>
  <cp:lastModifiedBy>Annie</cp:lastModifiedBy>
  <dcterms:modified xsi:type="dcterms:W3CDTF">2009-12-16T18:27:31Z</dcterms:modified>
  <cp:revision>213</cp:revision>
  <dc:subject/>
  <dc:title>Slide 1</dc:title>
</cp:coreProperties>
</file>